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8D244-1C7A-4E6D-9C8F-C1E9ABAC8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60D41-6963-4F11-9AEC-6915F225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FB5D9-68E4-4A7A-B492-AFDD2D945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75AD0-2201-4040-B74E-A3B76D653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9314-B57F-4D92-9EE5-F85A3A9F3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5075-1763-4B8C-9279-C45D56BC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42CDF-C6B3-4827-80F3-E03F24D8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CE0C-855E-46E3-8F67-A766A990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518AE-F2F1-4A60-B1BB-D50EC2E9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4F67-8F94-461E-BA9F-9B0B14F2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93398-0D89-4E71-9EEB-7B075C5C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771DB-C6C0-424D-A4B1-C189AA9F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EE84-CC9D-4F5A-AD29-176656D6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EF72-58C1-47B8-B6CE-B8EF8B3D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55D5C-38A1-4861-8484-C1F98514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E099-2D99-4697-B1E7-461298736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16BA-E580-4960-BE2A-EEBDFA8D4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C0A45-048C-433C-B192-15220F90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8EDFF-D00E-4101-9D8E-BAAB61B6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D5AB1-4F15-415C-9663-E1F0366C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B8410-2552-48E2-B871-0638801D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E0690-CE8F-44DE-BF1E-45A2F741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3A4D6-95A1-4F98-8D48-3156B50B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C8509-2843-4923-9945-74CE8AF6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67D1-9A2D-4A46-A9CE-4BF5A50B46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892F-26D8-45A0-8E9F-3F12113D7E6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1A89-3DA7-4CFE-8704-FF7A1F059F1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B1DB-55D0-415A-827B-8D59F5AAB6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9800" y="241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 Notification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0560" y="1269720"/>
            <a:ext cx="82296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mail “Build Notification” is sent by a Manager to “System QA” mailing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otification must be sent by 8:30am every Monday mo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essage says “there is a build availabl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 identifiers (time stamp, directory name, that uniquely identifies buil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exact location (and provide any password information requir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additional items needed to successfully install (installation instruc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The message says “there is no build available and here is the reas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Build fai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BAT fai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thing else (be specifi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A Manager compiles status Monday morning and reports to all no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ch products? See The Release Components.xls spread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not send old builds (if your current build fai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1652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Build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9040" y="11808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esday/Wednes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structure and libraries 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 Team starts B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notification when build is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rs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ther products 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notification when builds iden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day through Sun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A teams run B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notification when BAT comple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urday and Sunday are slack days.  They can be used to get the build working, if there are probl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day 8:30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ms send build not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QA Accepts bui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ekly “Test Cycle” beg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structure and libraries test cycle is ahead of all other teams by two d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2T02:53:38Z</dcterms:created>
  <dc:creator/>
  <dc:description/>
  <dc:language>en-US</dc:language>
  <cp:lastModifiedBy>Erich</cp:lastModifiedBy>
  <cp:lastPrinted>2001-06-20T22:09:19Z</cp:lastPrinted>
  <dcterms:modified xsi:type="dcterms:W3CDTF">2003-02-02T06:32:22Z</dcterms:modified>
  <cp:revision>9446</cp:revision>
  <dc:subject/>
  <dc:title>PowerPoint Presentation</dc:title>
</cp:coreProperties>
</file>